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8A31-8895-4771-AB36-F3CD5647D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0260-9A64-4B51-A937-1C3771949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3370-15B7-4DB4-ADE0-C80F58A7D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05D6-F361-46B5-B6FD-CFCEC35BF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023C-AFA4-40DE-9381-8549772C5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C8E3-C840-4010-A681-8B5C7B635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635-2815-43D2-AD5D-CEAD52F5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32C-C184-4771-AB01-260BAB76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0B1-5EEE-4C5F-9CE6-3A1E5C7F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18E-1CE1-4EA7-B346-2056E850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7D1-8A13-4941-A4EC-755CD957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F6F-2662-4B42-93E5-ED05473B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9ED-E991-4748-8DA0-183F43B3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FF7-3FF3-44A4-B048-FBC88EB3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50A-F366-44B0-9C87-6750B386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209-64BC-4265-A958-9A87A7A4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2C3-C11E-43E6-A4C0-EB5420D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414-71D9-4F42-A7CE-7706118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4D90-02DB-4DAC-A611-595B15A48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sasearch.gov/" TargetMode="External"/><Relationship Id="rId2" Type="http://schemas.openxmlformats.org/officeDocument/2006/relationships/hyperlink" Target="http://www.photolib.noaa.gov/" TargetMode="External"/><Relationship Id="rId3" Type="http://schemas.openxmlformats.org/officeDocument/2006/relationships/hyperlink" Target="http://images.fws.gov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ata.nurp.noaa.gov/mmedia/NURP_mmsearch.asp" TargetMode="External"/><Relationship Id="rId2" Type="http://schemas.openxmlformats.org/officeDocument/2006/relationships/hyperlink" Target="http://www.pmel.noaa.gov/vents/geology/video_nemo01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0640" y="1238040"/>
            <a:ext cx="5448240" cy="30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ANG to you a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the moon re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reckless free-hear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   free-throated rythm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moon remembers th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  And is kind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4600" y="5813280"/>
            <a:ext cx="447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85480" y="441972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819440" y="6167520"/>
            <a:ext cx="643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andburg used a now rare spelling of the wor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hyth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was commonly used in poetry and literature at one time.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81360" y="1218960"/>
            <a:ext cx="3581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g co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ittle cat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its loo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harbor and c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ilent haunch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move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748960" y="609588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114080" y="4572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2240" y="1189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NGLE clenched fist lifted and read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 open asking hand held out and wait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Choo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 meet by one o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4760" y="611496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656880" y="327672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te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5320" y="1200240"/>
            <a:ext cx="73152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whitelight flashes the frost to-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n of the purple and silent w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me one of your lovers of dr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68400" y="6095880"/>
            <a:ext cx="60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525120" y="29718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440" y="190080"/>
            <a:ext cx="121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81120" y="121932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, I am fi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ng under the ocean flo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hall never meet you, brother-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 years, anyhow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thousands of years, broth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 will warm you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you close, wrap you in circ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 and change you-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thousands of years, br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48720" y="609588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190400" y="495288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for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usasearch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hotolib.noaa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fws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for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ata.nurp.noaa.gov/mmedia/NURP_mmsearch.a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mel.noaa.gov/vents/geology/video_nemo01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ws.gov/video/broll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open-video.org/index.ph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for A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ws.gov/video/sound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indsounds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artnersinrhyme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ididb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udio from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ample audio came from the Clip Organizer in PowerPoint. In much the same way that you insert clip art, you can insert sounds from the Sound Clip Organ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menu, choo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ies and Sou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from Clip Organizer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sk pane,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xt entry box, type a categ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sound that you want to h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2:46:56Z</dcterms:created>
  <dc:creator>Lezie</dc:creator>
  <dc:description>© 2005-2007 SchoolKiT.com Inc.
This template is a component of a SchoolKiT product and may only be used under license. For more information visit: www.schoolkit.com.</dc:description>
  <cp:keywords/>
  <dc:language>en-US</dc:language>
  <cp:lastModifiedBy>Lezie</cp:lastModifiedBy>
  <dcterms:modified xsi:type="dcterms:W3CDTF">2010-05-25T14:09:59Z</dcterms:modified>
  <cp:revision>5</cp:revision>
  <dc:subject>SchoolKiT</dc:subject>
  <dc:title>I Sang</dc:title>
</cp:coreProperties>
</file>